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12954"/>
        <c:axId val="79519854"/>
      </c:barChart>
      <c:catAx>
        <c:axId val="733129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19854"/>
        <c:crosses val="autoZero"/>
        <c:auto val="1"/>
        <c:lblAlgn val="ctr"/>
        <c:lblOffset val="100"/>
        <c:noMultiLvlLbl val="0"/>
      </c:catAx>
      <c:valAx>
        <c:axId val="79519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129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9A0-6D2B-46A0-947E-677EB7F8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77B-274D-4E11-8F13-2E9AFA56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4FB4-18D3-446C-B5FF-C046E8E0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0170-18F4-4A62-B105-90F4CB28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5B07-71B7-4C0E-9C53-BB2DAE0E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B53-7398-43BA-9607-15361B37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85A-DB58-4E76-931F-10454CF9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6BF-DEC5-4A4B-BA4C-E9C13BE6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3A0-A461-479F-9343-D0678EF8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0C2-89C2-44EE-BFD5-3830352C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877-EBCC-4779-9ED8-8512AAE1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EAA-A624-444D-B37D-2C784999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13E11-5E0F-49C5-8EBE-2508B937E7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