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859677"/>
        <c:axId val="45389546"/>
      </c:barChart>
      <c:catAx>
        <c:axId val="908596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89546"/>
        <c:crosses val="autoZero"/>
        <c:auto val="1"/>
        <c:lblAlgn val="ctr"/>
        <c:lblOffset val="100"/>
        <c:noMultiLvlLbl val="0"/>
      </c:catAx>
      <c:valAx>
        <c:axId val="453895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596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BC7A-0D8E-4EFA-8955-8C24BD93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D15C-06C6-43BC-BD85-C62FB052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B976-918A-4BA8-B894-CF32B9C4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EFA3-981B-4B01-B4B9-81D16073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5E8A-48F9-43B8-94E6-04E8AABE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3BCC-073C-4D7A-BBB4-D50BD47A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5FA9-DBFA-45F8-8153-D5BBA144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F3AD-98E8-4BFE-85EB-65B86AF8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1AFD-0EF1-4958-9981-F69E4E8C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661D-B24C-43FC-B12A-9DCBDA98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8605-A5FF-402F-9081-2CFB317C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78C5-42D9-430F-A5B4-70E61D48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BDF0D-0F42-49F8-9B07-52BAEF9E25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