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51540"/>
        <c:axId val="34651386"/>
      </c:barChart>
      <c:catAx>
        <c:axId val="588515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51386"/>
        <c:crosses val="autoZero"/>
        <c:auto val="1"/>
        <c:lblAlgn val="ctr"/>
        <c:lblOffset val="100"/>
        <c:noMultiLvlLbl val="0"/>
      </c:catAx>
      <c:valAx>
        <c:axId val="346513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515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ACCC-02B9-4390-BB0C-2459EDB1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6180-4E6B-4C23-8A89-EA70DE36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6F07-3A0B-4B2F-9602-6F7FF36F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2486-868A-4FCC-BDB8-ACD97597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3775-9042-4AA5-BF16-A5DC36BD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0074-0DD5-4C61-A816-65A25472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E92E-78CF-491E-916A-FDB64465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9E6A-6BD1-4634-966C-00E47B4C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31D5-A36E-4DEC-B4E7-CF68EC04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13B5-B223-4BB8-9E17-B08E5B43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5D18-79AB-4CD4-8DDE-22112C5E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2A7B-8BA1-466F-A971-02203339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F448E-1394-4013-B5E8-9BBB6952B1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