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242616"/>
        <c:axId val="7457041"/>
      </c:barChart>
      <c:catAx>
        <c:axId val="252426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7041"/>
        <c:crosses val="autoZero"/>
        <c:auto val="1"/>
        <c:lblAlgn val="ctr"/>
        <c:lblOffset val="100"/>
        <c:noMultiLvlLbl val="0"/>
      </c:catAx>
      <c:valAx>
        <c:axId val="7457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426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E88-F705-417F-A8A7-A0AA084F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194-3A4A-4C78-B6FD-0FE84512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323-88A2-4B46-BEE5-05A24B08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3B84-6AB2-47E4-9217-07B7FE29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6CE-BB0F-4E90-AA29-68A99B67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9E33-8232-4276-8AF2-E0BBB75C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07B-A062-41EB-A62F-D54F659F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EEE3-7E0B-4738-99C0-52E107DA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CF0-9859-4E9E-896F-93563764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C0B-EA5C-47E0-A9B0-941860CB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BAF1-EAC6-4DF8-ABA9-67B2EF32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17E-A694-4C26-9D89-85590226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D6829-0171-4BB3-93E0-B171D762BD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